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EDFA-C7E5-4EA9-BF81-DD3DB4768C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7399-D47F-4C16-8571-362F58074544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A69-1765-4B44-8BC5-6C9A0FD8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5D0-2AD7-4A20-9340-CA67EBAA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A57-5FDD-4B30-AE1B-952C6468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775-13CC-46FC-900A-468A6AF8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CF3-91CE-4325-9A05-EC20169C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955-B308-4A9F-9F53-0E347879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C2D-12B6-41F0-863B-0E21CAB4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DD3-8E73-4F2A-98E3-E57A411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6EA-B247-4FA3-822F-5CCBDF1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5F8-6C71-4496-88A6-666733FF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05F-3665-4C28-967C-D3B9D0FF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C06-7D6E-4AC8-AA18-08E3D32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058-88EA-4FA5-9927-57297C6D271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ACF-5742-44DE-AF25-E2E8D55E8B0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684360" y="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1267920"/>
            <a:ext cx="7215480" cy="16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«Колокольчик» с. Борско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Культура витальной безопасности как ценностное отношение человека к жизни и здоровью»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148360" y="5516640"/>
            <a:ext cx="32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ширина Е. А.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r>
              <a:rPr b="0" lang="ru-RU" sz="1600" spc="-1" strike="noStrike">
                <a:solidFill>
                  <a:srgbClr val="6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ребенка правильному ценностей здорового образа жизн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знакомление детей с ценностями здорового образа жизн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Развитие осознанности и произвольности в выполнении основных правил безопасного повед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Обогащение представлений детей о безопасности жизнедеятельности человека.</a:t>
            </a:r>
            <a:br>
              <a:rPr sz="2800"/>
            </a:b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CCCD-4C99-46D4-B245-FB7C2AB080C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глаза видели, а уши слышали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539640" y="1689120"/>
            <a:ext cx="813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Наше тело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093680"/>
            <a:ext cx="78487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65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rcRect l="0" t="0" r="3653" b="4581"/>
          <a:stretch/>
        </p:blipFill>
        <p:spPr>
          <a:xfrm>
            <a:off x="395280" y="291960"/>
            <a:ext cx="842472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Спасибо сс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C798-C1C2-45F0-B771-321277CDD7DA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Picture 2" descr="C:\Users\Админ\Desktop\anaokulu_1.jpg"/>
          <p:cNvPicPr/>
          <p:nvPr/>
        </p:nvPicPr>
        <p:blipFill>
          <a:blip r:embed="rId1"/>
          <a:stretch/>
        </p:blipFill>
        <p:spPr>
          <a:xfrm>
            <a:off x="1170000" y="728640"/>
            <a:ext cx="6743520" cy="42148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56944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8:35:13Z</dcterms:created>
  <dc:creator>mihail and olga</dc:creator>
  <dc:description>http://aida.ucoz.ru</dc:description>
  <dc:language>en-US</dc:language>
  <cp:lastModifiedBy>Пользователь Windows</cp:lastModifiedBy>
  <dcterms:modified xsi:type="dcterms:W3CDTF">2024-10-05T11:34:41Z</dcterms:modified>
  <cp:revision>78</cp:revision>
  <dc:subject/>
  <dc:title>Слайд 1</dc:title>
</cp:coreProperties>
</file>